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EE1-0626-4AC7-B07D-82C7DE17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BFB-69C7-41D1-AA53-F066B72E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51A-17C8-4B3D-9E97-EFEC0AB8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BAF-EEC4-4345-ACF3-C5EB4310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C37-CA39-4DDB-B3A2-F141FB24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C03-E47D-4561-B110-468DF1E5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A3D-91B2-42E0-81E6-EB6E3998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51B-B9E7-4B1A-99FD-B18F291B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0F0-1E57-4252-BCD0-1C97A5F8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74A-5D5B-4F82-B101-89DB6607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D88-C3DF-4CBB-A187-2E09D5C6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2EE-657B-48AE-B35C-31828550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1616-3B96-4F52-919E-57453A36A97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MEMORIAS DE LA JORNADA DE CAPACIT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El 24 de febrero de 2011, el Círculo de Estudios Pedagógicos y de la Formación Profesional – CEPEF, desarrolló con la Junta Nacional de SINDESENA un conversatorio sobre los conceptos de OFICIO Y OCUPACIÓN, y sobre la inquietud de si el Estatuto de la Formación Profesional resultado del Acuerdo No. 008 de 1997 constituía un Modelo Pedagógico para el SE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Ponemos a su disposición los materiales que fueron insumos para la discusión y las diapositivas que dieron marco a la presentación que hizo la directora del CEPEF, Amparo Sandoval Lass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00"/>
                </a:solidFill>
                <a:uFillTx/>
                <a:latin typeface="Calibri"/>
              </a:rPr>
              <a:t>Haga click aquí para descargar las memor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3:30:08Z</dcterms:created>
  <dc:creator>RODRIGO</dc:creator>
  <dc:description/>
  <dc:language>en-US</dc:language>
  <cp:lastModifiedBy>RODRIGO</cp:lastModifiedBy>
  <dcterms:modified xsi:type="dcterms:W3CDTF">2011-03-02T03:41:34Z</dcterms:modified>
  <cp:revision>4</cp:revision>
  <dc:subject/>
  <dc:title>Diapositiva 1</dc:title>
</cp:coreProperties>
</file>